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F180-34CF-44D7-B8D4-849247F7E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732A-6A43-4EC2-86D6-9A48C3EE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9257-302C-45C1-931D-DAE203E68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3F37-5179-48B5-BE9E-0914F483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EDC2-1C06-41F3-A834-F2C904FD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18CD-84F7-4021-9B17-280DF5D9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C8C2-7D2D-43E2-B323-1CF4368B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FF46-186A-4876-9CF8-CB9F6603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CD7B-0212-4247-9D0D-04E62AA01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4073-0ABB-4D6C-91AE-D73190BC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BC77-D395-42EA-8A3A-D27EDB1F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DB4-2F7E-4657-8F80-24631945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671AE-578F-4B13-BD73-92CCF5BDBF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139680" y="19080"/>
            <a:ext cx="987480" cy="1170000"/>
          </a:xfrm>
          <a:prstGeom prst="rect">
            <a:avLst/>
          </a:prstGeom>
          <a:ln w="0">
            <a:noFill/>
          </a:ln>
        </p:spPr>
      </p:pic>
      <p:sp>
        <p:nvSpPr>
          <p:cNvPr id="42" name="Прямая соединительная линия 16"/>
          <p:cNvSpPr/>
          <p:nvPr/>
        </p:nvSpPr>
        <p:spPr>
          <a:xfrm flipH="1">
            <a:off x="-144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ая соединительная линия 17"/>
          <p:cNvSpPr/>
          <p:nvPr/>
        </p:nvSpPr>
        <p:spPr>
          <a:xfrm flipH="1">
            <a:off x="6856560" y="0"/>
            <a:ext cx="1440" cy="914400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ая соединительная линия 18"/>
          <p:cNvSpPr/>
          <p:nvPr/>
        </p:nvSpPr>
        <p:spPr>
          <a:xfrm>
            <a:off x="0" y="914400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1"/>
          <p:cNvSpPr/>
          <p:nvPr/>
        </p:nvSpPr>
        <p:spPr>
          <a:xfrm>
            <a:off x="0" y="0"/>
            <a:ext cx="6858000" cy="1440"/>
          </a:xfrm>
          <a:prstGeom prst="line">
            <a:avLst/>
          </a:prstGeom>
          <a:ln cap="rnd" w="12708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0"/>
          <p:cNvSpPr/>
          <p:nvPr/>
        </p:nvSpPr>
        <p:spPr>
          <a:xfrm>
            <a:off x="1295280" y="115920"/>
            <a:ext cx="38102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Федеральный государственный пожарный надзор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ru-RU" sz="1700" spc="-1" strike="noStrike">
                <a:solidFill>
                  <a:srgbClr val="ff0000"/>
                </a:solidFill>
                <a:latin typeface="Arial"/>
              </a:rPr>
              <a:t>информирует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C:\Users\User\Desktop\для газеты\images.jpg"/>
          <p:cNvPicPr/>
          <p:nvPr/>
        </p:nvPicPr>
        <p:blipFill>
          <a:blip r:embed="rId2"/>
          <a:stretch/>
        </p:blipFill>
        <p:spPr>
          <a:xfrm>
            <a:off x="5275440" y="76320"/>
            <a:ext cx="1525320" cy="1143000"/>
          </a:xfrm>
          <a:prstGeom prst="rect">
            <a:avLst/>
          </a:prstGeom>
          <a:ln w="0">
            <a:noFill/>
          </a:ln>
        </p:spPr>
      </p:pic>
      <p:sp>
        <p:nvSpPr>
          <p:cNvPr id="48" name="TextBox 1"/>
          <p:cNvSpPr/>
          <p:nvPr/>
        </p:nvSpPr>
        <p:spPr>
          <a:xfrm>
            <a:off x="90360" y="1079640"/>
            <a:ext cx="6677280" cy="79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асные печ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❗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ачала 2024 года в Омской области печи стали причинами 435 пожар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России рекомендуе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вляй без присмотра растопленную печ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топкой должен быть металлический лист 50 на 70 сантимет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допускай перекала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ь и уметь - это не одно и тож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мни: огнетушитель поможет справиться с пламенем только на ранней стадии возгора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России рассказывает, как им пользоватьс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рви пломб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рни чек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неси огнетушитель к пламени примерно на 2 метр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ь шланг на огон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ми рыча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и за сроком службы огнетушителя. При необходимости перезаправ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❗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ЧС России: с начала года из-за взрывов бытового газа случились 23 происше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используй газовую плиту для обогрева помещений или сушки вещ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 начала года 23 происшествия произошло из-за взрыва бытового газа. Пострадали 224 человека и, к сожалению, погибли 45 человек. Сотрудникам МЧС России удалось спасти 98 человек. Не оставляйте без присмотра работающие газовые приборы - кроме оборудования, рассчитанного на непрерывную работу и оснащенного соответствующей автоматикой безопасности. Убеждайтесь наверняка, что надежно перекрыли подачу «голубого» топлива. Специалисты ведомства только дают рекомендации о необходимости соблюдения правил пожарной безопасности в быту. Проверить состояние газовых приборов в жилом секторе имеют право специализированные организации с лицензией», - отметил глава МЧС России Александр Куренк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ЕРЕГИТЕ СЕБЯ И СВОИХ БЛИЗКИХ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 ПОЖАРЕ ЗВОНИТЬ 101, 112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ONDiPR</cp:lastModifiedBy>
  <dcterms:modified xsi:type="dcterms:W3CDTF">2024-12-03T08:09:50Z</dcterms:modified>
  <cp:revision>84</cp:revision>
  <dc:subject/>
  <dc:title>Слайд 1</dc:title>
</cp:coreProperties>
</file>