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71A7-55F0-40BC-B2E9-BD1B666A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4319-ED0B-46E6-BEA2-CB7588AC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99E4-B8AC-4D6E-861C-1D8923A22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0AC5-B18C-4CCD-8A94-706225E4A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0F33-9A25-4B7A-9390-B45BD7C8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F030-6F8A-4562-8D66-27877B39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32C3-7674-481C-B558-A5F176DC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6EB7-612C-4EDF-9DBC-500F0B0B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13F8-8402-4FCC-BE96-3AD13395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DA86-862C-4874-BE7E-4484BEBB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3C48-F356-401E-B217-CBA8FFBA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C4D9-23F3-4A87-826C-0462370E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7DC8-B4C0-403B-BE9A-342E8E6ED6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39680" y="19080"/>
            <a:ext cx="987480" cy="1170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ая соединительная линия 16"/>
          <p:cNvSpPr/>
          <p:nvPr/>
        </p:nvSpPr>
        <p:spPr>
          <a:xfrm flipH="1">
            <a:off x="-1440" y="0"/>
            <a:ext cx="1440" cy="9144000"/>
          </a:xfrm>
          <a:prstGeom prst="line">
            <a:avLst/>
          </a:prstGeom>
          <a:ln cap="rnd" w="12708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ая соединительная линия 17"/>
          <p:cNvSpPr/>
          <p:nvPr/>
        </p:nvSpPr>
        <p:spPr>
          <a:xfrm flipH="1">
            <a:off x="6856560" y="0"/>
            <a:ext cx="1440" cy="9144000"/>
          </a:xfrm>
          <a:prstGeom prst="line">
            <a:avLst/>
          </a:prstGeom>
          <a:ln cap="rnd" w="12708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ая соединительная линия 18"/>
          <p:cNvSpPr/>
          <p:nvPr/>
        </p:nvSpPr>
        <p:spPr>
          <a:xfrm>
            <a:off x="0" y="9144000"/>
            <a:ext cx="6858000" cy="1440"/>
          </a:xfrm>
          <a:prstGeom prst="line">
            <a:avLst/>
          </a:prstGeom>
          <a:ln cap="rnd" w="12708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21"/>
          <p:cNvSpPr/>
          <p:nvPr/>
        </p:nvSpPr>
        <p:spPr>
          <a:xfrm>
            <a:off x="0" y="0"/>
            <a:ext cx="6858000" cy="1440"/>
          </a:xfrm>
          <a:prstGeom prst="line">
            <a:avLst/>
          </a:prstGeom>
          <a:ln cap="rnd" w="12708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0"/>
          <p:cNvSpPr/>
          <p:nvPr/>
        </p:nvSpPr>
        <p:spPr>
          <a:xfrm>
            <a:off x="1295280" y="115920"/>
            <a:ext cx="381024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Arial"/>
              </a:rPr>
              <a:t>Федеральный государственный пожарный надзо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700" spc="-1" strike="noStrike">
                <a:solidFill>
                  <a:srgbClr val="ff0000"/>
                </a:solidFill>
                <a:latin typeface="Arial"/>
              </a:rPr>
              <a:t>информируе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Users\User\Desktop\для газеты\images.jpg"/>
          <p:cNvPicPr/>
          <p:nvPr/>
        </p:nvPicPr>
        <p:blipFill>
          <a:blip r:embed="rId2"/>
          <a:stretch/>
        </p:blipFill>
        <p:spPr>
          <a:xfrm>
            <a:off x="5275440" y="76320"/>
            <a:ext cx="1525320" cy="1143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1"/>
          <p:cNvSpPr/>
          <p:nvPr/>
        </p:nvSpPr>
        <p:spPr>
          <a:xfrm>
            <a:off x="90360" y="1174680"/>
            <a:ext cx="6677280" cy="79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л сделать ремонт сам или доверить это другом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ЧС России о безопасности при огневых рабо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бедись, что вблизи нет легковоспламеняющихся и горючих материал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день средства индивидуальной защи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гради место работ металлическими щит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мей при себе средства пожаротушения (воду, песок, огнетушитель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веряй ремонт профессионал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ЧС России о печном отоплен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 проверяй состояние задвижки и очищай дымоход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вляй печь без присмот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льше от печи убери вещи, мебель отодвин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рь специалисту осмотр пе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ЧС России: от воды горячее масло загори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ши пожар правиль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⭕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ключи плит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⭕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рой горящую посуду металлической крышк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⭕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туши водой. Можно содой или землей, лучше - углекислотным или порошковым огнетушител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боту пожарных и огонь можно смотреть бесконечно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влекайся таким зрелищем. Обезопась свой д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ключай технику на ночь и уходя из жиль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и в каждой комнате пожарный извещатель. Прибор предупредит о возгорании громким сигнал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и огнетушитель. Справишься с огнем на ранней стадии возгор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жаре звони - 101 или 1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РЕГИТЕ СЕБЯ И СВОИХ БЛИЗКИХ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 ПОЖАРЕ ЗВОНИТЬ 101, 112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NDiPR</cp:lastModifiedBy>
  <dcterms:modified xsi:type="dcterms:W3CDTF">2024-11-05T07:27:34Z</dcterms:modified>
  <cp:revision>83</cp:revision>
  <dc:subject/>
  <dc:title>Слайд 1</dc:title>
</cp:coreProperties>
</file>