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19C-1E87-4E79-BA86-38389DF6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0D5-3562-4E0A-97B5-49AA1FE2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6A8-F4A9-41E4-A0B6-FF0A6CB4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E5F-9BA6-435A-ACA1-4FC13362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8B5-7025-4BEA-B87B-8977491A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580-F4D1-47A4-9FFF-CEC05ECF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BF7-829B-49F4-BE27-00CA0026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556-8F4A-4EDD-A06B-A971F329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8A3-33C0-4C64-B53E-555255ED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C5E-8B84-4FA0-8EE7-AF0B3BAB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745-8D6E-4ADD-89BB-FCED474E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0D6-B1BF-44C0-A5E4-94C4BF3D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6F83-ABB1-4BAC-9854-CFDCA3B4A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39680" y="19080"/>
            <a:ext cx="987480" cy="1170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16"/>
          <p:cNvSpPr/>
          <p:nvPr/>
        </p:nvSpPr>
        <p:spPr>
          <a:xfrm flipH="1">
            <a:off x="-144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17"/>
          <p:cNvSpPr/>
          <p:nvPr/>
        </p:nvSpPr>
        <p:spPr>
          <a:xfrm flipH="1">
            <a:off x="685656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18"/>
          <p:cNvSpPr/>
          <p:nvPr/>
        </p:nvSpPr>
        <p:spPr>
          <a:xfrm>
            <a:off x="0" y="914400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1"/>
          <p:cNvSpPr/>
          <p:nvPr/>
        </p:nvSpPr>
        <p:spPr>
          <a:xfrm>
            <a:off x="0" y="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0"/>
          <p:cNvSpPr/>
          <p:nvPr/>
        </p:nvSpPr>
        <p:spPr>
          <a:xfrm>
            <a:off x="1295280" y="115920"/>
            <a:ext cx="38102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Федеральный государственный пожарный надзор информируе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ser\Desktop\для газеты\images.jpg"/>
          <p:cNvPicPr/>
          <p:nvPr/>
        </p:nvPicPr>
        <p:blipFill>
          <a:blip r:embed="rId2"/>
          <a:stretch/>
        </p:blipFill>
        <p:spPr>
          <a:xfrm>
            <a:off x="5275440" y="76320"/>
            <a:ext cx="152532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90360" y="1212840"/>
            <a:ext cx="6677280" cy="81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при возгорании автомоби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 – это самый настоящий склад легковоспламеняющихся материалов: бензин, масло, резина, краска, кожа или ткань, проводка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 выгорает полностью за 4 - 6 минут. Поэтому оказавшись рядом с таким пожаром, как можно быстрее покиньте место происшествия на безопасное расстояние – 10–15 метров по радиусу, так как при возгорании автомобиля может последовать взрыв бензоба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ая безопасность автомобиля зависит от бдительности и ответственности его владельца, от соблюдения им правил и норм эксплуатации. Кроме того, немаловажным условием безопасности является наличие исправного огнетушителя в автомоби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амым действенным огнетушителям относятся порошковые. Они заправляются специальным составом, который дает возможность тушить различные горючие вещества, а также электрическое оборудование, находящееся под напряж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ать огнетушитель нужно лишь в специализированных магазинах, проверяя перед этим сертификаты пожарной безопасности и паспорт, в котором должен быть прописан срок год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ть огнетушитель лучше в салоне, в непосредственной близости от автовладельца. Не рекомендуется оставлять его в багажнике, так как во время чрезвычайной ситуации доступ к нему может быть затрудн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ой возникновения пожара автомобиля может ст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ость электрической провод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ерметизация топливной систе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 температура некоторых дета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 в автомобил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перевозка опасных груз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кновение автомоби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жог недоброжел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пожара водитель автомобиля должен быть готов предпринять правильные действия и грамотно локализовать очаг возгорания. Есть три наиболее важные вещи, которые надо всегда иметь в автомобиле: аптечку с медикаментами, огнетушитель и несинтетическую накид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ЕГИТЕ СЕБЯ И СВОИХ БЛИЗКИХ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ПОЖАРЕ ЗВОНИТЬ 101, 112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DiPR</cp:lastModifiedBy>
  <dcterms:modified xsi:type="dcterms:W3CDTF">2024-02-27T06:18:21Z</dcterms:modified>
  <cp:revision>76</cp:revision>
  <dc:subject/>
  <dc:title>Слайд 1</dc:title>
</cp:coreProperties>
</file>