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A50-4E96-4032-819E-D342A81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A2D-98E2-45DB-B4E2-AE726CF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9A4-FE29-42F2-A588-A79C70CD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42A-9007-48DF-9C9C-A0D1B496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E00-25DF-4EBA-8E5B-248432D0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FBB-7E80-4AAF-AFB1-18AAF64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133-DAA8-44D3-9D10-EB77F10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3D2-5F1D-481D-8846-C475EB51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833-98FB-429A-BBFD-F952DFAB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41C-7B0D-4760-B2C8-0F9882C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5E9-47C4-4689-8462-0286F7B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DCA-8C7F-4C09-9064-6FDC7D3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A911-FCC2-421C-B7BC-7C662F02F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 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054080"/>
            <a:ext cx="6677280" cy="80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- тонкий ле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тонкий лед становится причиной гибели людей, чаще всего среди погибших оказываются дети, которые гуляют вблизи замерзших водоемов без присмотра родителей, и рыбаки, выходящие на свой страх и риск на непрочный и коварный лед. Многие рыбаки–любители, провалившись раз под лед, идут снова и снова, надеясь на авось… и очередное везение, однако, такая самоуверенность приводит только к непоправимой траге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происшествий можно, если соблюдать правила и меры личной безопасности. Одна из самых частых причин трагедий на водоёмах – безответственное поведение людей в состоянии алкогольного опьянения. Люди становятся беспомощными, притупляется чувство самосохранения, реакции замедляются, и они не могут адекватно реагировать на чрезвычайную ситу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 на ль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произошло беды на тонком льду, необходимо зн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условием безопасного пребывания человека на льду является соответствие толщины льда прилагаемой нагрузк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одного человека не менее 7 с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сооружения катка 12 см и бол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совершения пешей переправы 15 см и бол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проезда автомобилей не менее 3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безопасного пребывания человека в во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+24°С время безопасного пребывания 7-9 час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+5 - +15°С - от 3,5 часов до 4,5 ча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мпература воды +2 - +3°С оказывается смертельной для человека через 10-15 м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-2°С – смерть может наступить через 5-8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ль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зрачный лёд с зеленоватым или синеватым оттен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открытом бесснежном пространстве лёд всегда тол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вет льда молочно-мутный, серый лёд, обычно ноздреватый и пористый, такой лёд обрушивается без предупреждающего потреск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д, покрытый снегом (снег, выпавший на только что образовавшийся лёд, помимо того, что маскирует полыньи, замедляет рост ледяного покр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д более тонок на течении, особенно быстром, на глубоких и открытых для ветра местах; над тенистым и торфяным дном; у болотистых берегов; в местах выхода подводных ключей; под мостами; в узких протоках; вблизи мест сброса в водоемы теплых и горячих вод промышленных и коммунальны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естах, где растет камыш, тростник и другие водные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ЗАПРЕЩАЕТСЯ: выходить на лед в состоянии алкогольного опьянения, прыгать и бегать по льду, собираться большим количеством людей в одной точке, выходить на тонкий лед, который образовался на реках с быстрым теч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4-04-01T05:35:43Z</dcterms:modified>
  <cp:revision>77</cp:revision>
  <dc:subject/>
  <dc:title>Слайд 1</dc:title>
</cp:coreProperties>
</file>